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hn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tr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4880" y="54936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eutr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hn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dung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nochenmark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rginalisatio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Neutrophilenpoo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5" idx="3"/>
            <a:endCxn id="10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9" name=""/>
          <p:cNvCxnSpPr>
            <a:stCxn id="105" idx="3"/>
            <a:endCxn id="10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1001880" y="54936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eutr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ohne 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nochenmark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utrophil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2" idx="3"/>
            <a:endCxn id="11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6" name=""/>
          <p:cNvCxnSpPr>
            <a:stCxn id="112" idx="3"/>
            <a:endCxn id="11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1117800" y="549360"/>
            <a:ext cx="71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utr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hne Linksverschieb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ildung im Knochenmark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rwiege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trophil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17080" y="549360"/>
            <a:ext cx="73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eutr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Linksverschieb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dung im Knochenmark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vorwiegend Neutrophil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9" idx="3"/>
            <a:endCxn id="12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rühe Knochenmarks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Strahlung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Chemotherapeutika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arvovir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17080" y="549360"/>
            <a:ext cx="73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eutr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Linksverschieb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dung im Knochenmark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Pan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Sulfonam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 Östr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Hun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3"/>
            <a:endCxn id="133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arginalisat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eutrophilenpoo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oc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00080" y="54936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eutr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hne Linksverschieb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Marginalisat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Neutrophilenpoo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t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Bedarf übersteig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chproduktio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6" idx="3"/>
            <a:endCxn id="13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0" name=""/>
          <p:cNvCxnSpPr>
            <a:stCxn id="136" idx="3"/>
            <a:endCxn id="13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883080" y="549360"/>
            <a:ext cx="41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eutr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mit Linksverschieb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Bedarf übersteig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chproduktio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6640" y="549360"/>
            <a:ext cx="78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Neutr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mit Linksverschiebung &gt; Verbrauch ↑ (Bedarf übersteig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Nachproduktio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3" idx="3"/>
            <a:endCxn id="14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iteransamml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Abszess, Empye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eps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50" idx="3"/>
            <a:endCxn id="151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munmediier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utr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5920" y="5493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Neutr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mit Linksverschiebung &gt; 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6:34:27Z</dcterms:modified>
  <cp:revision>329</cp:revision>
  <dc:subject/>
  <dc:title>Vorstellung einer Neuheit</dc:title>
</cp:coreProperties>
</file>